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C431-593A-4D87-B86C-E721035308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A30-0B18-4D11-8E7D-E9DC331959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2202-F1EB-4023-97C4-75EE961023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deas that are interesting/important/original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- the writing must have purpose and engage the read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tructure that is logical and effecti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- the ordering of information and ideas (from micro to macro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Voice that is individual/appropri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- how the writing feels to the reader through the expression of the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riter. Formal/casual... Dreamy/military... et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anguage that is specific, fluent and expressi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- using the right words to convey correct meaning in writing that flows and creates the desired emo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ventions that are correct and communicati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the ways we all agree to use punctuation, spelling, grammar, and other things that make writing consistent and easy to re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6D20-BDEF-41C1-917A-FD8F8D4B92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2AD-D1D8-4207-A369-11A24686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FEE-8A8B-4CBB-93F9-46C23BF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ADA-4CC4-4650-9E63-108E79C0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D79-8186-4EB0-A74E-5D5363EB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7617-F091-42F2-A904-89215607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B203-F2C3-441F-8C8A-D75F7FEE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6CB6-2400-46C2-BAED-3B7A9354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37DD-2ED2-4764-85BA-2D078DD7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D0E5-D2FE-4635-8EFB-48CEEAE1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2FE0-032A-47DF-9B26-2018F2D8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C070-2058-42B0-AC21-B078AB9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D8B-CCA9-422A-B2C5-13B8ECC7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6395-C5FD-4FE9-BE4B-5F43576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BF64-B912-4DE2-B1E0-919EFC5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0DC8-465F-4B31-BF21-1C5C864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89A-4480-4D4B-8510-CE8A520B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BD87-FFDC-4494-BEC7-23693420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06B37-4F06-4824-8D0C-F99BDD5A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2CD0-8E81-41AB-910E-2AC69F07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E9CD-F1BD-402F-ADE8-7DA7228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938F-371A-4F92-ABC2-3228556C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6FE0-3CD7-4516-A772-6A73B94F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754-A3CE-4281-A9A7-F4005D3C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A416-B115-4094-A306-F5F05278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2BBB-CB45-41CB-8041-8748830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673D-800E-4DAF-885B-04D018F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72AE6-3ADD-41B5-AAF5-EE305F9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8568-A61D-4BB4-8057-7BC1BF2F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4ED5-8BBA-4BF5-BEE7-E8C071F9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B065-F699-4BD5-B89B-3FB04BF3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05B8-BC09-416C-AA83-FCC3671F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37C2-EA1B-4137-A9B3-8E6729E0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CE88-9F92-479C-B7D7-7B1208FD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AEC-CD33-47CC-B70D-C9CDFB1D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CB3E-C0AD-4EE4-B94F-78261AA3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3D4E-35A2-4389-A1BA-F9B28E0D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A4AF3-F170-4B04-B6F1-D7DFB3DF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4AFD-1B5D-4208-9926-82804AD8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2B678-5B43-4630-AF63-A9548A97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446A-0DE6-49B0-A4BE-D4B7435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6FB9-E08A-45AE-BBFD-928FF7B4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C015-A53C-4F23-817C-E6F7971C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5B37E-7897-4F16-A2AA-875DAF20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99C72-C613-4B2A-88EC-3447F1D5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EAB-E9A2-46AE-801B-3F5C2632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D8926-073E-44AA-AD52-5F086D60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D251-6BFE-4489-A2F7-66D875BF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81A6-1331-454D-BC67-2C60A37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DFCF8-D860-459C-8DC3-CF0C7953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84CD4-C382-449E-A076-84E9A11F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83BA5-96C4-43B9-9F7E-0D0D221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DF69-4EC2-4BD8-926B-D3CEF3CD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4109-684B-46DB-BFC5-0FE9172E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59FF4-980F-4EDF-A407-4C57C03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7AD4-4790-4567-A53E-BAA94FF5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E15-7863-49D4-A29C-E4B278A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224DB-B49A-4C5B-A0EE-A8F66B55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0A5-5348-40A0-91F6-6432337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A46-A710-4DD2-B9E3-EB5926A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5D2-B874-47B1-8DD0-D0BD5F7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2655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2655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2655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FB80-7404-439C-AB53-127432EAF4CB}" type="slidenum">
              <a:rPr b="0" lang="en-GB" sz="1200" spc="-1" strike="noStrike">
                <a:solidFill>
                  <a:srgbClr val="6265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6793-DC4A-46FC-8D24-E1178D0337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e0d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fe0d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e0d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C05-90C3-47B1-96CD-27C2BAB23281}" type="slidenum">
              <a:rPr b="0" lang="en-GB" sz="1200" spc="-1" strike="noStrike">
                <a:solidFill>
                  <a:srgbClr val="dfe0d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e0d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fe0d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e0d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582B-8B5F-41C5-BF7D-C9BBCC88D671}" type="slidenum">
              <a:rPr b="0" lang="en-GB" sz="1200" spc="-1" strike="noStrike">
                <a:solidFill>
                  <a:srgbClr val="dfe0d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2655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2655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2655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74B9-C1C1-4299-9F61-A023BC25FD91}" type="slidenum">
              <a:rPr b="0" lang="en-GB" sz="1200" spc="-1" strike="noStrike">
                <a:solidFill>
                  <a:srgbClr val="6265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11280" y="946080"/>
            <a:ext cx="7939080" cy="5938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duction to Creative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1859c"/>
                </a:solidFill>
                <a:latin typeface="Calibri"/>
              </a:rPr>
              <a:t>What is ‘Good’ Wri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3276720" y="5950080"/>
            <a:ext cx="266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© Sophie Playle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ww.sophieplay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Summing Up...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any subjective (personal) criteria of ‘good’ writing, e.g. style, subject matter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20000"/>
              </a:lnSpc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also more objective (widely accepted) criteria of what constitutes ‘good’ writing, e.g. clarity, appropriateness of voice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20000"/>
              </a:lnSpc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is sometimes a lot of cross-over between the two categories. There is no strict right or wrong answer. In order to create ‘good’ writing, the writer must consider these poi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395280" y="5013360"/>
            <a:ext cx="8280360" cy="1557000"/>
            <a:chOff x="395280" y="5013360"/>
            <a:chExt cx="8280360" cy="1557000"/>
          </a:xfrm>
        </p:grpSpPr>
        <p:sp>
          <p:nvSpPr>
            <p:cNvPr id="269" name="TextBox 3"/>
            <p:cNvSpPr/>
            <p:nvPr/>
          </p:nvSpPr>
          <p:spPr>
            <a:xfrm>
              <a:off x="395280" y="5084640"/>
              <a:ext cx="8280360" cy="1252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b0cc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You should now be confident in your ability to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alibri"/>
                </a:rPr>
                <a:t>Discuss and recognise the different ways of defining ‘good’ writ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4"/>
            <p:cNvSpPr/>
            <p:nvPr/>
          </p:nvSpPr>
          <p:spPr>
            <a:xfrm>
              <a:off x="7596360" y="5013360"/>
              <a:ext cx="93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3c7483"/>
                  </a:solidFill>
                  <a:latin typeface="Wingdings"/>
                  <a:ea typeface="Wingdings"/>
                </a:rPr>
                <a:t>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611280" y="946080"/>
            <a:ext cx="7939080" cy="5938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000" y="2133720"/>
            <a:ext cx="51116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y the end of this session you will be able to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cuss and recognise the different ways of defining ‘good’ wri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eedback and group discus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jective and objective viewpo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ini qui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468360" y="119700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Today’s 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3427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Activity: Rank the Extract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4920" y="2204640"/>
            <a:ext cx="4321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pairs (or small groups)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an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three writing examples from ‘best’ to ‘worst’ writing. You shoul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scus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he reasons for your decisions with your partner(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member: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re is no right or wrong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: 5 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39081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00000" y="1196640"/>
            <a:ext cx="598644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ight City was like a deranged experiment in social Darwinism, designed by a bored researcher who kept one thumb permanently on the fast-forward button. Stop hustling and you sank without a trace, but move a little too swiftly and you'd break the fragile surface tension of the black market; either way, you were gone, with nothing left of you but some vague memory in the mind of a fixture like Ratz, though heart or lungs or kidneys might survive in the service of some stranger with New Yen for the clinic tan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euromancer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iam Gibson,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95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916000" y="1341360"/>
            <a:ext cx="584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lucidity, the clarity of the light that afternoon was sufficient to itself; perfect transparency must be impenetrable, these vertical bars of a brass-coloured distillation of light coming down from sulphur-yellow interstices in a sky hunkered with grey clouds that bulge with more rain. It struck the wood with nicotine-stained fingers, the leaves glittered. A cold day of late October, when the withered blackberries dangled like their own dour spooks on the discoloured bram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‘The Erl King’ from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The Bloody Chamber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gela Carter, 197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2159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771280" y="1196640"/>
            <a:ext cx="591516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that they gave me, my brothers, was a crappy starry mirror to look into, and indeed I was not your handsome young Narrator any longer but a real strack of a sight, my rot swollen and my glazzies all red and my nose bumped a bit also. They all had a real horrowshow smeck when they viddied my like dismay, and one of them said: 'Love's young nightmare like.' And then a top millicent came in with like stars on his pletchoes to show he was high high high, and he viddied me and said: 'Hm.' So then they star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 Clockwork Orange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thony Burgess, 196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0163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Subjectivity – Personal Preferenc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enr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– elements that make up a predetermined formu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– what the book is about (intrigue, character..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tyl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– how the book is written (language, narration..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Era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– when the book was written &amp; the perception of the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 ti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ocial influences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– recommendation, prizes, movies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Objectivity </a:t>
            </a:r>
            <a:r>
              <a:rPr b="1" lang="en-GB" sz="2400" spc="-1" strike="noStrike">
                <a:solidFill>
                  <a:srgbClr val="3c7483"/>
                </a:solidFill>
                <a:latin typeface="Calibri"/>
              </a:rPr>
              <a:t>– Widely Accepted Criteria for ‘Good’ Writing</a:t>
            </a:r>
            <a:endParaRPr b="0" lang="en-US" sz="2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215856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deas that are interesting/important/origin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tructure that is logical and effe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ice that is individual/appropri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nguage that is specific, fluent and express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ventions that are correct and communic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76720" y="1341000"/>
            <a:ext cx="4248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Super Fun Mini Quiz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781360"/>
            <a:ext cx="8424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'Good' writing can mean different things to different peop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b050"/>
                </a:solidFill>
                <a:latin typeface="Calibri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The enjoyment of rococo (elaborately ornamental) prose, like    the Angela Carter extract B, is an example of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ubjective (personal) p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 Making up words is a trait of 'bad' wr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C:\Users\Sophie\AppData\Local\Microsoft\Windows\Temporary Internet Files\Content.IE5\EZQCOX28\MC900440572[1].png"/>
          <p:cNvPicPr/>
          <p:nvPr/>
        </p:nvPicPr>
        <p:blipFill>
          <a:blip r:embed="rId2"/>
          <a:stretch/>
        </p:blipFill>
        <p:spPr>
          <a:xfrm>
            <a:off x="900000" y="26028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3:52:19Z</dcterms:created>
  <dc:creator>Sophie Playle</dc:creator>
  <dc:description/>
  <dc:language>en-US</dc:language>
  <cp:lastModifiedBy>Owner</cp:lastModifiedBy>
  <dcterms:modified xsi:type="dcterms:W3CDTF">2012-09-05T13:32:25Z</dcterms:modified>
  <cp:revision>48</cp:revision>
  <dc:subject/>
  <dc:title>Slide 1</dc:title>
</cp:coreProperties>
</file>